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463F-DDB4-4501-9BEA-C4DC39BA8A7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52560" y="685800"/>
            <a:ext cx="495288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gnificance of the criteria can differ depending on the goals and stage of priorit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52560" y="685800"/>
            <a:ext cx="495288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CRITERIA HAVE TO INCLUDE THE FOLLOWING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real necessity in the water supply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investments should have the most social-economical bene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stainability of the sett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nto account the technical feasibility and the economy of the suggested investments and exploitation expens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said above it is recommended to use the next 4 main crite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of population and risk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nd economical pro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of th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oss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settlements is recommended to do by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52560" y="685800"/>
            <a:ext cx="495288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ing of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in criteria and subcriteria on different stages have different values to the prioritization goals, it is recommended to use the specific “ Weighting” of each criteria on each stage of priorit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52560" y="685800"/>
            <a:ext cx="495288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50 of the most prioritized settlements there were chosen 6 projects. For each one there were done technical and economical and financial and sociological re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results of this feasibility study The Kuwait Fund For Arab Economic Development loan was given to the development of all 6 settlements. It is implemented successfu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9BF1-8700-4EA7-8B52-177C250E1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118A7-D9D3-4587-813D-AB41212E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13B37-C203-4C7E-BFCF-6D0D7E4AA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BA520-A591-408B-9F0D-19C092F65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3651B-1F7D-4FF2-8616-461FFEDFF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63F7E-7B83-448C-9FCA-E215865A4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D3A52-D56E-4E7A-80B1-5D04229B2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472BF-D0A1-4366-B9AB-F591AE326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3B7C-D70D-4973-B03E-0CA517F51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4882-7007-4DA9-BF75-033D92FAA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4F5A8-081F-42DF-A583-B72544DA2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8706-3EB0-47D8-9CA6-EB653219B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53E6-77DA-4DC5-A5EB-9CCD5086E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E596D-C956-4456-87B5-FDF43EC81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01AC7-FE1E-47EC-9032-6068FA8FA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E903D-1F75-42F0-A9A7-B26EF3F3F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2B69A-53BA-4533-A8E1-723BDA5B9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D438A-B4DC-49E7-8F38-D0FB4C3A9C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2"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7E8DE-6F36-4342-A1C4-4D5684840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9967B-79A6-4169-85AC-0A38101AF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9BBB7-214C-44EF-A4DF-5803B9160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CE7D7-C132-47E2-93A8-BE31E1E3A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C91E-CC4C-42E0-A5AD-EFA020A0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D73A4-61FB-4217-BFB4-2139ADD92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371EC-EF8F-4B1F-9208-E73EF3DD1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D0E06-7E0D-428B-8839-5AC57A437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14344-49E2-4EE5-B47C-F7EBCA44B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3"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4"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1261A-F792-4542-A1A6-BCABC1DB6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494273-66F2-40AA-BF6A-34D8FE3EE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2"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711FDD-E2B3-42AA-B511-37B6722EF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1783D0-D37C-42A1-8E9E-6C745F25E0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A470DC-BE04-4693-8EB5-2FA486EBEB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523F50-8BCA-46C5-96B3-4103B54A77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3647-0A7C-4300-A726-F8842AD96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07784E-8902-4D03-9D52-FBE863CF43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724B8A-F679-448D-AE85-D607926FD2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3C514B-38CA-4CCA-852E-5433EB5C20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2F5184-E9F3-49A5-B8C5-5A305F8FAF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45F50B-40CA-4D45-99DE-38309D6D7A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96BF7B-8A51-45A7-9CEE-8DCC04BB3A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FAC55C-6641-4BAD-B35B-96493E6ADF1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93C1DC-9B0E-4A74-BF9E-1161567BB4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8A2B6A-A903-4E25-98F6-B015D1A10E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36448-21DB-4EE0-84F3-B686ABD30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8F56-4ED9-464A-A1F1-BF90F402B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4DBE-4AA1-4FEC-B4BA-BF8B3D80C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F38F-3C8B-4049-A294-4B2A521B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9047-09B4-4EE1-945A-8C8D9AEA2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3440" y="-117360"/>
            <a:ext cx="2991960" cy="6973920"/>
            <a:chOff x="-73440" y="-117360"/>
            <a:chExt cx="2991960" cy="6973920"/>
          </a:xfrm>
        </p:grpSpPr>
        <p:sp>
          <p:nvSpPr>
            <p:cNvPr id="1" name=""/>
            <p:cNvSpPr/>
            <p:nvPr/>
          </p:nvSpPr>
          <p:spPr>
            <a:xfrm>
              <a:off x="-7920" y="5178600"/>
              <a:ext cx="811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84240" y="3925080"/>
              <a:ext cx="943920" cy="723600"/>
              <a:chOff x="84240" y="3925080"/>
              <a:chExt cx="943920" cy="723600"/>
            </a:xfrm>
          </p:grpSpPr>
          <p:sp>
            <p:nvSpPr>
              <p:cNvPr id="3" name=""/>
              <p:cNvSpPr/>
              <p:nvPr/>
            </p:nvSpPr>
            <p:spPr>
              <a:xfrm flipH="1" rot="14965200">
                <a:off x="144360" y="3938400"/>
                <a:ext cx="227160" cy="286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311400" y="4305960"/>
                <a:ext cx="388440" cy="237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96600" y="4142520"/>
                <a:ext cx="406080" cy="120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5160" y="2755800"/>
              <a:ext cx="122040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800" y="2585160"/>
              <a:ext cx="2916720" cy="3150720"/>
              <a:chOff x="1800" y="2585160"/>
              <a:chExt cx="2916720" cy="3150720"/>
            </a:xfrm>
          </p:grpSpPr>
          <p:sp>
            <p:nvSpPr>
              <p:cNvPr id="8" name=""/>
              <p:cNvSpPr/>
              <p:nvPr/>
            </p:nvSpPr>
            <p:spPr>
              <a:xfrm flipH="1" rot="789600">
                <a:off x="409680" y="2692080"/>
                <a:ext cx="105588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5840" y="2832120"/>
                <a:ext cx="8838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81600" y="3041640"/>
                <a:ext cx="31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955080" y="3788640"/>
                <a:ext cx="286920" cy="3078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73000" y="3848040"/>
                <a:ext cx="709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936360" y="4032000"/>
                <a:ext cx="1982160" cy="1703880"/>
                <a:chOff x="936360" y="4032000"/>
                <a:chExt cx="1982160" cy="1703880"/>
              </a:xfrm>
            </p:grpSpPr>
            <p:sp>
              <p:nvSpPr>
                <p:cNvPr id="14" name=""/>
                <p:cNvSpPr/>
                <p:nvPr/>
              </p:nvSpPr>
              <p:spPr>
                <a:xfrm flipH="1" rot="7102800">
                  <a:off x="1390320" y="3895200"/>
                  <a:ext cx="473760" cy="1315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536560" y="4963680"/>
                  <a:ext cx="109800" cy="5403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731680" y="5581440"/>
                  <a:ext cx="199080" cy="9036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3560" bIns="43560" anchor="t">
                  <a:noAutofit/>
                </a:bodyPr>
                <a:p>
                  <a:endParaRPr b="0" lang="en-US" sz="1800" spc="-1" strike="noStrike">
                    <a:solidFill>
                      <a:srgbClr val="006699"/>
                    </a:solidFill>
                    <a:latin typeface="Arial"/>
                  </a:endParaRPr>
                </a:p>
              </p:txBody>
            </p:sp>
          </p:grpSp>
        </p:grpSp>
        <p:grpSp>
          <p:nvGrpSpPr>
            <p:cNvPr id="17" name=""/>
            <p:cNvGrpSpPr/>
            <p:nvPr/>
          </p:nvGrpSpPr>
          <p:grpSpPr>
            <a:xfrm>
              <a:off x="511560" y="6175080"/>
              <a:ext cx="844560" cy="637920"/>
              <a:chOff x="511560" y="6175080"/>
              <a:chExt cx="844560" cy="637920"/>
            </a:xfrm>
          </p:grpSpPr>
          <p:sp>
            <p:nvSpPr>
              <p:cNvPr id="18" name=""/>
              <p:cNvSpPr/>
              <p:nvPr/>
            </p:nvSpPr>
            <p:spPr>
              <a:xfrm rot="6248400">
                <a:off x="1100880" y="6166800"/>
                <a:ext cx="196560" cy="273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841680" y="6508080"/>
                <a:ext cx="336600" cy="227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434160" y="6401160"/>
                <a:ext cx="352080" cy="115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45240" y="1772280"/>
              <a:ext cx="849600" cy="696600"/>
              <a:chOff x="345240" y="1772280"/>
              <a:chExt cx="849600" cy="696600"/>
            </a:xfrm>
          </p:grpSpPr>
          <p:sp>
            <p:nvSpPr>
              <p:cNvPr id="22" name=""/>
              <p:cNvSpPr/>
              <p:nvPr/>
            </p:nvSpPr>
            <p:spPr>
              <a:xfrm rot="5002800">
                <a:off x="919440" y="1732320"/>
                <a:ext cx="206640" cy="322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64640" y="2143800"/>
                <a:ext cx="353880" cy="267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49120" y="2204280"/>
                <a:ext cx="370080" cy="136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401480" y="0"/>
              <a:ext cx="592200" cy="581400"/>
              <a:chOff x="1401480" y="0"/>
              <a:chExt cx="592200" cy="581400"/>
            </a:xfrm>
          </p:grpSpPr>
          <p:sp>
            <p:nvSpPr>
              <p:cNvPr id="26" name=""/>
              <p:cNvSpPr/>
              <p:nvPr/>
            </p:nvSpPr>
            <p:spPr>
              <a:xfrm>
                <a:off x="1401480" y="0"/>
                <a:ext cx="1875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672560" y="103320"/>
                <a:ext cx="32112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607760" y="489240"/>
                <a:ext cx="33552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50120" y="149400"/>
              <a:ext cx="12013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416520" y="5403600"/>
              <a:ext cx="22680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57560" y="5702040"/>
              <a:ext cx="113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9440" y="6524640"/>
              <a:ext cx="20268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360" y="6299280"/>
              <a:ext cx="22320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360" y="6269040"/>
              <a:ext cx="8064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360" y="5141880"/>
              <a:ext cx="85428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4920" y="650520"/>
              <a:ext cx="591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416160" y="1199880"/>
              <a:ext cx="28728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86760" y="453960"/>
              <a:ext cx="25236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406080" y="1144440"/>
              <a:ext cx="1062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1005840" y="739440"/>
              <a:ext cx="12348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360" y="1406520"/>
              <a:ext cx="61884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2840"/>
              <a:ext cx="138204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95360" y="624348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5DA6-BBCE-409C-B62A-E2AE38C745B4}"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6920" y="0"/>
            <a:ext cx="9776160" cy="6858000"/>
            <a:chOff x="-16920" y="0"/>
            <a:chExt cx="9776160" cy="6858000"/>
          </a:xfrm>
        </p:grpSpPr>
        <p:grpSp>
          <p:nvGrpSpPr>
            <p:cNvPr id="85" name=""/>
            <p:cNvGrpSpPr/>
            <p:nvPr/>
          </p:nvGrpSpPr>
          <p:grpSpPr>
            <a:xfrm>
              <a:off x="5896080" y="31680"/>
              <a:ext cx="3863160" cy="6174720"/>
              <a:chOff x="5896080" y="31680"/>
              <a:chExt cx="3863160" cy="6174720"/>
            </a:xfrm>
          </p:grpSpPr>
          <p:sp>
            <p:nvSpPr>
              <p:cNvPr id="86" name=""/>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492080" y="1014480"/>
              <a:ext cx="1072440" cy="1312920"/>
              <a:chOff x="4492080" y="1014480"/>
              <a:chExt cx="1072440" cy="1312920"/>
            </a:xfrm>
          </p:grpSpPr>
          <p:sp>
            <p:nvSpPr>
              <p:cNvPr id="100" name=""/>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6112440" y="283680"/>
              <a:ext cx="962640" cy="862920"/>
              <a:chOff x="6112440" y="283680"/>
              <a:chExt cx="962640" cy="862920"/>
            </a:xfrm>
          </p:grpSpPr>
          <p:sp>
            <p:nvSpPr>
              <p:cNvPr id="104" name=""/>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1053720" y="5276160"/>
              <a:ext cx="1109880" cy="860760"/>
              <a:chOff x="1053720" y="5276160"/>
              <a:chExt cx="1109880" cy="860760"/>
            </a:xfrm>
          </p:grpSpPr>
          <p:sp>
            <p:nvSpPr>
              <p:cNvPr id="108" name=""/>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403560" y="420120"/>
              <a:ext cx="1802160" cy="1155960"/>
              <a:chOff x="403560" y="420120"/>
              <a:chExt cx="1802160" cy="1155960"/>
            </a:xfrm>
          </p:grpSpPr>
          <p:sp>
            <p:nvSpPr>
              <p:cNvPr id="112" name=""/>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8008920" y="3687480"/>
              <a:ext cx="1249200" cy="1629000"/>
              <a:chOff x="8008920" y="3687480"/>
              <a:chExt cx="1249200" cy="1629000"/>
            </a:xfrm>
          </p:grpSpPr>
          <p:sp>
            <p:nvSpPr>
              <p:cNvPr id="116" name=""/>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AE66-6E54-4831-890C-433DA1931043}"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660400" y="596880"/>
            <a:ext cx="670860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7"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3BB7-830F-4295-A116-AC431BFE0F3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8"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PlaceHolder 2"/>
          <p:cNvSpPr>
            <a:spLocks noGrp="1"/>
          </p:cNvSpPr>
          <p:nvPr>
            <p:ph type="ftr" idx="10"/>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PlaceHolder 3"/>
          <p:cNvSpPr>
            <a:spLocks noGrp="1"/>
          </p:cNvSpPr>
          <p:nvPr>
            <p:ph type="sldNum" idx="11"/>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270C-0770-4973-9D2C-404FF627CB7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1" name="PlaceHolder 4"/>
          <p:cNvSpPr>
            <a:spLocks noGrp="1"/>
          </p:cNvSpPr>
          <p:nvPr>
            <p:ph type="dt" idx="12"/>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456840"/>
            <a:ext cx="924552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ckholm World Water Week</a:t>
            </a:r>
            <a:br>
              <a:rPr sz="1800"/>
            </a:br>
            <a:r>
              <a:rPr b="0" lang="en-US" sz="1800" spc="-1" strike="noStrike">
                <a:solidFill>
                  <a:srgbClr val="ffffff"/>
                </a:solidFill>
                <a:latin typeface="Tahoma"/>
              </a:rPr>
              <a:t> </a:t>
            </a:r>
            <a:r>
              <a:rPr b="0" lang="en-US" sz="2000" spc="-1" strike="noStrike">
                <a:solidFill>
                  <a:srgbClr val="ffffff"/>
                </a:solidFill>
                <a:latin typeface="Tahoma"/>
              </a:rPr>
              <a:t>EU Water Initiative </a:t>
            </a:r>
            <a:r>
              <a:rPr b="0" lang="ro-RO" sz="2000" spc="-1" strike="noStrike">
                <a:solidFill>
                  <a:srgbClr val="ffffff"/>
                </a:solidFill>
                <a:latin typeface="Tahoma"/>
              </a:rPr>
              <a:t> Meeting</a:t>
            </a:r>
            <a:r>
              <a:rPr b="0" lang="en-US" sz="2000" spc="-1" strike="noStrike">
                <a:solidFill>
                  <a:srgbClr val="ffffff"/>
                </a:solidFill>
                <a:latin typeface="Tahoma"/>
              </a:rPr>
              <a:t> </a:t>
            </a:r>
            <a:br>
              <a:rPr sz="2000"/>
            </a:br>
            <a:br>
              <a:rPr sz="2000"/>
            </a:br>
            <a:r>
              <a:rPr b="0" lang="ru-RU" sz="2000" spc="-1" strike="noStrike">
                <a:solidFill>
                  <a:srgbClr val="ffffff"/>
                </a:solidFill>
                <a:latin typeface="Tahoma"/>
              </a:rPr>
              <a:t> </a:t>
            </a:r>
            <a:br>
              <a:rPr sz="1800"/>
            </a:br>
            <a:r>
              <a:rPr b="0" lang="en-US" sz="1800" spc="-1" strike="noStrike">
                <a:solidFill>
                  <a:srgbClr val="ffffff"/>
                </a:solidFill>
                <a:latin typeface="Tahoma"/>
              </a:rPr>
              <a:t>Stockholm, August</a:t>
            </a:r>
            <a:r>
              <a:rPr b="0" lang="ru-RU" sz="3600" spc="-1" strike="noStrike">
                <a:solidFill>
                  <a:srgbClr val="ffffff"/>
                </a:solidFill>
                <a:latin typeface="Tahoma"/>
              </a:rPr>
              <a:t> </a:t>
            </a:r>
            <a:r>
              <a:rPr b="0" lang="en-US" sz="1800" spc="-1" strike="noStrike">
                <a:solidFill>
                  <a:srgbClr val="ffffff"/>
                </a:solidFill>
                <a:latin typeface="Tahoma"/>
              </a:rPr>
              <a:t>20 </a:t>
            </a:r>
            <a:r>
              <a:rPr b="0" lang="ru-RU" sz="1800" spc="-1" strike="noStrike">
                <a:solidFill>
                  <a:srgbClr val="ffffff"/>
                </a:solidFill>
                <a:latin typeface="Tahoma"/>
              </a:rPr>
              <a:t>-2</a:t>
            </a:r>
            <a:r>
              <a:rPr b="0" lang="en-US" sz="1800" spc="-1" strike="noStrike">
                <a:solidFill>
                  <a:srgbClr val="ffffff"/>
                </a:solidFill>
                <a:latin typeface="Tahoma"/>
              </a:rPr>
              <a:t>7</a:t>
            </a:r>
            <a:r>
              <a:rPr b="0" lang="ru-RU" sz="1800" spc="-1" strike="noStrike">
                <a:solidFill>
                  <a:srgbClr val="ffffff"/>
                </a:solidFill>
                <a:latin typeface="Tahoma"/>
              </a:rPr>
              <a:t>  200</a:t>
            </a:r>
            <a:r>
              <a:rPr b="0" lang="en-US" sz="1800" spc="-1" strike="noStrike">
                <a:solidFill>
                  <a:srgbClr val="ffffff"/>
                </a:solidFill>
                <a:latin typeface="Tahoma"/>
              </a:rPr>
              <a:t>6</a:t>
            </a:r>
            <a:r>
              <a:rPr b="0" lang="ru-RU" sz="1800" spc="-1" strike="noStrike">
                <a:solidFill>
                  <a:srgbClr val="ffffff"/>
                </a:solidFill>
                <a:latin typeface="Tahoma"/>
              </a:rPr>
              <a:t> г</a:t>
            </a:r>
            <a:endParaRPr b="0" lang="en-US" sz="1800" spc="-1" strike="noStrike">
              <a:solidFill>
                <a:srgbClr val="ffffff"/>
              </a:solidFill>
              <a:latin typeface="Tahoma"/>
            </a:endParaRPr>
          </a:p>
        </p:txBody>
      </p:sp>
      <p:sp>
        <p:nvSpPr>
          <p:cNvPr id="257" name="PlaceHolder 2"/>
          <p:cNvSpPr>
            <a:spLocks noGrp="1"/>
          </p:cNvSpPr>
          <p:nvPr>
            <p:ph type="subTitle"/>
          </p:nvPr>
        </p:nvSpPr>
        <p:spPr>
          <a:xfrm>
            <a:off x="1320480" y="2514600"/>
            <a:ext cx="742932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 of Moldova with development of criteria for the settlement prioritization for improved water supply</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atiana Ivanova</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vaproiect, Mold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determination of the settlement prioritization</a:t>
            </a:r>
            <a:endParaRPr b="0" lang="en-US" sz="4000" spc="-1" strike="noStrike">
              <a:solidFill>
                <a:srgbClr val="006666"/>
              </a:solidFill>
              <a:latin typeface="Verdana"/>
            </a:endParaRPr>
          </a:p>
        </p:txBody>
      </p:sp>
      <p:sp>
        <p:nvSpPr>
          <p:cNvPr id="259"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a:t>
            </a:r>
            <a:r>
              <a:rPr b="0" lang="ru-RU" sz="2400" spc="-1" strike="noStrike">
                <a:solidFill>
                  <a:srgbClr val="006699"/>
                </a:solidFill>
                <a:latin typeface="Verdana"/>
              </a:rPr>
              <a:t>.</a:t>
            </a:r>
            <a:r>
              <a:rPr b="0" lang="ru-RU" sz="3200" spc="-1" strike="noStrike">
                <a:solidFill>
                  <a:srgbClr val="006699"/>
                </a:solidFill>
                <a:latin typeface="Verdana"/>
              </a:rPr>
              <a:t> </a:t>
            </a:r>
            <a:endParaRPr b="0" lang="en-US" sz="3200" spc="-1" strike="noStrike">
              <a:solidFill>
                <a:srgbClr val="006699"/>
              </a:solidFill>
              <a:latin typeface="Verdana"/>
            </a:endParaRPr>
          </a:p>
          <a:p>
            <a:pPr marL="343080" indent="-343080" algn="just">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s important to remember  that the significance of the criteria can differ depending on the goals and stage of prioritization</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E4D72A72-CB97-4486-AD0E-39AD14B165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HE GENERAL CRITERIA HAVE TO INCLUDE THE FOLLOWING PRINCIPLES:</a:t>
            </a:r>
            <a:endParaRPr b="0" lang="en-US" sz="3200" spc="-1" strike="noStrike">
              <a:solidFill>
                <a:srgbClr val="006666"/>
              </a:solidFill>
              <a:latin typeface="Verdana"/>
            </a:endParaRPr>
          </a:p>
        </p:txBody>
      </p:sp>
      <p:sp>
        <p:nvSpPr>
          <p:cNvPr id="261" name="PlaceHolder 2"/>
          <p:cNvSpPr>
            <a:spLocks noGrp="1"/>
          </p:cNvSpPr>
          <p:nvPr>
            <p:ph/>
          </p:nvPr>
        </p:nvSpPr>
        <p:spPr>
          <a:xfrm>
            <a:off x="495000" y="1752480"/>
            <a:ext cx="8915400" cy="45720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ow the real necessity in the water supply improvemen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intended investments should have the most social-economical benefi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Show the sustainability of the settlemen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ke into account the technical feasibility and the economy of the suggested investments and exploitation expenses</a:t>
            </a:r>
            <a:r>
              <a:rPr b="0" lang="ru-RU" sz="2800" spc="-1" strike="noStrike">
                <a:solidFill>
                  <a:srgbClr val="006699"/>
                </a:solidFill>
                <a:latin typeface="Verdana"/>
              </a:rPr>
              <a:t>. </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28E538E7-8481-4345-8FFE-B590BE5E81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160" y="103320"/>
            <a:ext cx="8931240" cy="658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6666"/>
                </a:solidFill>
                <a:latin typeface="Verdana"/>
              </a:rPr>
              <a:t>General Criteria</a:t>
            </a:r>
            <a:endParaRPr b="0" lang="en-US" sz="4000" spc="-1" strike="noStrike">
              <a:solidFill>
                <a:srgbClr val="006666"/>
              </a:solidFill>
              <a:latin typeface="Verdana"/>
            </a:endParaRPr>
          </a:p>
        </p:txBody>
      </p:sp>
      <p:sp>
        <p:nvSpPr>
          <p:cNvPr id="263" name="PlaceHolder 2"/>
          <p:cNvSpPr>
            <a:spLocks noGrp="1"/>
          </p:cNvSpPr>
          <p:nvPr>
            <p:ph/>
          </p:nvPr>
        </p:nvSpPr>
        <p:spPr>
          <a:xfrm>
            <a:off x="495000" y="990360"/>
            <a:ext cx="8915400" cy="5065560"/>
          </a:xfrm>
          <a:prstGeom prst="rect">
            <a:avLst/>
          </a:prstGeom>
          <a:noFill/>
          <a:ln w="0">
            <a:noFill/>
          </a:ln>
        </p:spPr>
        <p:txBody>
          <a:bodyPr lIns="90000" rIns="90000" tIns="46800" bIns="46800"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ed on said above it is recommended to use the next 4 main criterea</a:t>
            </a:r>
            <a:r>
              <a:rPr b="0" lang="ru-RU" sz="2800" spc="-1" strike="noStrike">
                <a:solidFill>
                  <a:srgbClr val="006699"/>
                </a:solidFill>
                <a:latin typeface="Verdana"/>
              </a:rPr>
              <a:t> :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health of population and risk factors</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cial and economical profit</a:t>
            </a:r>
            <a:r>
              <a:rPr b="1"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stainability of the system</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echnical possibility</a:t>
            </a:r>
            <a:r>
              <a:rPr b="1" lang="ru-RU" sz="2800" spc="-1" strike="noStrike">
                <a:solidFill>
                  <a:srgbClr val="006699"/>
                </a:solidFill>
                <a:latin typeface="Verdana"/>
              </a:rPr>
              <a:t>.</a:t>
            </a:r>
            <a:r>
              <a:rPr b="0"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selection of settlements is recommended to do by phases</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CFDEB167-D7B3-4E75-B794-32EC53093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ighting of Criteria</a:t>
            </a:r>
            <a:endParaRPr b="0" lang="en-US" sz="4400" spc="-1" strike="noStrike">
              <a:solidFill>
                <a:srgbClr val="006666"/>
              </a:solidFill>
              <a:latin typeface="Verdana"/>
            </a:endParaRPr>
          </a:p>
        </p:txBody>
      </p:sp>
      <p:sp>
        <p:nvSpPr>
          <p:cNvPr id="265" name="PlaceHolder 2"/>
          <p:cNvSpPr>
            <a:spLocks noGrp="1"/>
          </p:cNvSpPr>
          <p:nvPr>
            <p:ph/>
          </p:nvPr>
        </p:nvSpPr>
        <p:spPr>
          <a:xfrm>
            <a:off x="380520" y="1676520"/>
            <a:ext cx="9068040" cy="16761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 the main criteria and subcriteria on different stages have different values to the prioritization goals, it is recommended to use the specific “ Weighting” of each criteria on each stage of prioritization.</a:t>
            </a:r>
            <a:endParaRPr b="0" lang="en-US" sz="2400" spc="-1" strike="noStrike">
              <a:solidFill>
                <a:srgbClr val="006699"/>
              </a:solidFill>
              <a:latin typeface="Verdana"/>
            </a:endParaRPr>
          </a:p>
        </p:txBody>
      </p:sp>
      <p:graphicFrame>
        <p:nvGraphicFramePr>
          <p:cNvPr id="266" name=""/>
          <p:cNvGraphicFramePr/>
          <p:nvPr/>
        </p:nvGraphicFramePr>
        <p:xfrm>
          <a:off x="380880" y="3352680"/>
          <a:ext cx="9144000" cy="3276360"/>
        </p:xfrm>
        <a:graphic>
          <a:graphicData uri="http://schemas.openxmlformats.org/drawingml/2006/table">
            <a:tbl>
              <a:tblPr/>
              <a:tblGrid>
                <a:gridCol w="1447920"/>
                <a:gridCol w="1828800"/>
                <a:gridCol w="1981080"/>
                <a:gridCol w="1981440"/>
                <a:gridCol w="1904760"/>
              </a:tblGrid>
              <a:tr h="151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Prioritization stage</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Health of the population and risk factors</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cial and economical benefit</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ustaina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Technical possi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irst</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5</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5</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r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3</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2</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8</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7</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4" name="PlaceHolder 3"/>
          <p:cNvSpPr>
            <a:spLocks noGrp="1"/>
          </p:cNvSpPr>
          <p:nvPr>
            <p:ph type="sldNum" idx="3"/>
          </p:nvPr>
        </p:nvSpPr>
        <p:spPr/>
        <p:txBody>
          <a:bodyPr/>
          <a:p>
            <a:fld id="{A024882E-EE32-4089-BBFE-D4B37041E6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79160" y="103320"/>
            <a:ext cx="8931240" cy="1039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conclusion</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68" name="PlaceHolder 2"/>
          <p:cNvSpPr>
            <a:spLocks noGrp="1"/>
          </p:cNvSpPr>
          <p:nvPr>
            <p:ph/>
          </p:nvPr>
        </p:nvSpPr>
        <p:spPr>
          <a:xfrm>
            <a:off x="495000" y="1219320"/>
            <a:ext cx="8915400" cy="4952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rom the 50 of the most prioritized settlements there were chosen 6 projects. For each one there were done feasibility study with financial and sociological researche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sed on the results of this feasibility study The Kuwait Fund For Arab Economic Development loan was given to the development of all 6 settlements. It is implemented successfully</a:t>
            </a:r>
            <a:r>
              <a:rPr b="0" lang="ru-RU" sz="2400" spc="-1" strike="noStrike">
                <a:solidFill>
                  <a:srgbClr val="006699"/>
                </a:solidFill>
                <a:latin typeface="Verdana"/>
              </a:rPr>
              <a:t>.</a:t>
            </a: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5F0BB6C4-0B65-49BC-8723-F0C5E8FC7E2C}"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08:34:34Z</dcterms:created>
  <dc:creator>Bordeniuk</dc:creator>
  <dc:description/>
  <dc:language>en-US</dc:language>
  <cp:lastModifiedBy>Vanessa Celosse</cp:lastModifiedBy>
  <dcterms:modified xsi:type="dcterms:W3CDTF">2006-08-24T13:24:30Z</dcterms:modified>
  <cp:revision>64</cp:revision>
  <dc:subject/>
  <dc:title>Сектор Сельского Водоснабжения и Канализации (ССВК) в странах Восточной Европы, Кавказа и Центральной Азии (ВЕКЦА)-Проблемы и Перспективы Развития Апрель 19е-20е  2005 г Тбилиси, Грузия </dc:title>
</cp:coreProperties>
</file>